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C090-2EDE-43EA-A4E6-D9B60BE9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0F72-F993-427F-9449-8A5C668C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1180-9E9D-4FD9-BC2B-B0030718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AB03-CD04-4956-AEEF-2E30903A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3950-92E9-4057-9A49-3FD9CC5C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3CE3-5EC3-4C7F-A19E-CFC358F2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84F7-8969-471B-897E-41FB2980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1E03-9D0C-4169-9ED6-B566B6C1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C6A1-AE88-4F6A-AA92-0F226995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7828-4A32-4280-8DF9-9F6416D9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735D-AF30-4072-B146-BA850A00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5EBA-D3AD-4EBD-844B-F1DC505C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CF24-E21E-450C-8808-EC5FAECA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021B-C541-4680-856B-BEDF8A7A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7753-77C2-4BDA-A444-86315EE4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5F6F-7BAC-4BDE-8D09-31E6FB936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9F28-997B-49BD-A3C2-E3917889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3F80-EB1C-4223-9CCB-7ABF9EEB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67B6-7B39-49BD-AB21-2B71DFD6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C56E-F2FA-459E-9824-860864C1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8FE9-8671-49FB-84A7-8F2492C3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69FA-2B51-4BEA-99B1-9C383227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094E-499A-43F8-9A70-330E03D6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48B5-7975-411C-95F5-8E496313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C453-A562-47D1-8F84-219502F1AF9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E359-B595-458D-9AA9-517CE25E0F9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otball : gridir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aseball:diamo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nnis:ne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ckey:helme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ccer: goali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asketball:dribb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is the relationshi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ssignment: With a partner (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eone you haven’t worked with before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6960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6 quotes-3 from ch. 3 and 3 from ch. 4, that you think are important. Explain why they stand out to you or what they show about the book, character, et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ournal Respon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rite about a person you know who does things just to try to fit in or impress other people. 2 pa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. 3 and 4 qui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cused Freewri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 mi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o you think the world will be a better or a worse place 100 years from now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cabulary Practice-Fresh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a synonym for the following word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veig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rmi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insi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cul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me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cabulary Practice-Jun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a synonym for the following word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fflu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vis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ee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var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 Kill a Mockingbird-Ch.16/17 ques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does Atticus say about mobs and men over the breakfast tabl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significant about Mr. Dolphus Raymo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news does Scout get from the “Idlers’ Club”? What is it that confuses h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 is the first person to take the stand and testif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-Continu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does Atticus spend much of his time asking Mr. Tat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do the Ewells live, and what does this say about ther social position in Maycomb countr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es Mr. Ewell act when he first takes the stand, and how does Judge Taylor react to him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Mr. Ewell’s version of what happen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 does Atticus want Ewell to write his nam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ournal Respon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is your opinion of Bob Ewell? Compare him to any other character you’ve seen in a book or movie. Try, as Atticus suggests elsewhere, to walk in Bob Ewell’s shoes? Why is he the way he i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ad chapters 18 and 19 for tomorrow, expect a quiz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e Great Gatsb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rite a brief summary of the most important things in ch. 4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9:35:14Z</dcterms:created>
  <dc:creator>rebecca</dc:creator>
  <dc:description/>
  <dc:language>en-US</dc:language>
  <cp:lastModifiedBy>rebecca</cp:lastModifiedBy>
  <dcterms:modified xsi:type="dcterms:W3CDTF">2009-02-24T21:32:51Z</dcterms:modified>
  <cp:revision>3</cp:revision>
  <dc:subject/>
  <dc:title>DOA</dc:title>
</cp:coreProperties>
</file>